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15C-C87D-44FC-B0DD-E4826407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4CF-5329-4BB0-BCE4-9D060C1C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F8A-E676-4AD0-9D60-F5A35C06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729A-F6B6-4A24-ACAC-3F57E876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53D-32EA-4372-B747-A7D06FBD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D46-931F-4F8D-B07E-33AC73A7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018-B80E-46A2-9183-198B292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85C-6E6A-4F40-8ACD-8F40BF97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DDF-DEF4-445D-ADE8-A413A0B2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320-4532-450D-9F3F-6B180E8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BA0-4A07-49EF-9495-262AC97C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D4A-5805-4429-AC18-3A649E9C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6206-5E03-4DCB-8726-4229A0B72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8491-0A0E-4C1A-A1A6-42034C412F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1472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640" y="7992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Точка обмена трафиком (Internet Exchange Poi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Точка обмена трафиком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327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544500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A-E – пограничные BGP-маршрутизаторы, АС1-АС5 – сети автономных систем, RS – сервер маршрутн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9280" y="322884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946080"/>
            <a:ext cx="77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сключение маршрутного сервера из маршрута производится путем установки значения атрибута NEXT_HOP: анонсируя маршруты в сеть АС1, сервер RS указывает NEXT_HOP=A. Таким образом, маршрутизатор (например, Е), получивший и принявший к использованию такой маршрут, будет пересылать данные, предназначенные для АС1, непосредственно маршрутизатору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48BE-3989-4F26-A477-F9E542E45B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99232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8536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 Атрибуты пути (Path Attribu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1.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ORIGIN (тип 1) – обязательный атрибут, указывающий источник информации о маршру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0 – IGP (информация о достижимости сети получена от протокола внутренней маршрутизации или введена администратором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9374-2C22-4044-A570-B3B740FE87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640" y="3075120"/>
            <a:ext cx="781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1974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 – EGP (информация о достижимости сети импортирована из устаревшего протокола EGP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 – INCOMPLETE (информация получена другим образом, например, RIP-&gt;OSPF-&gt;BGP или BGP-&gt;OSPF-&gt;BGP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692E-1E55-47CF-BFCF-C3E78672C0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3230640"/>
            <a:ext cx="80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671840"/>
            <a:ext cx="80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трибут ORIGIN вставляется маршрутизатором, который генерирует информацию о маршруте, и при последующем анонсировании маршрута другими маршрутизаторами не изменяется. Атрибут фактически определяет надежность источника информации о маршруте (наиболее надежный ORIGIN=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E30E-5133-41F6-A903-A49935530D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19104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10240"/>
            <a:ext cx="7885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2. AS_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S_PATH (тип 2) – обязательный атрибут, содержащий список автономных систем, через которые должна пройти дейтаграмма на пути в указанную в маршруте сеть. AS_PATH представляет собой чередование сегментов двух типов: AS_SEQUENCE – упорядоченный список АС, и AS_SET – множество 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46C8-0445-4558-B94E-1258D4E087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32050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1570680"/>
            <a:ext cx="774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3. NEXT_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NEXT_HOP (тип 3) – обязательный атрибут, указывающий адрес следующего BGP-маршрутизатора на пути в заявленную сеть (см. обсуждение в п. 7.2); может совпадать или не совпадать с адресом BGP-узла, анонсирующего маршр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4347-2074-4726-B847-4B7A10E445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141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427400"/>
            <a:ext cx="8101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4. MULTI_EXIT_DI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 (тип 4) – необязательный атрибут, представляющий собой приоритет использования объявляющего маршрутизатора для достижения через него анонсируемой сети, то есть фактически это метрика маршрута с точки зрения анонсирующего маршрут BGP-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E82A-EC80-4505-A3BB-0F47066FB2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640" y="325908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1868400"/>
            <a:ext cx="77407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5. LOCAL_PR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LOCAL_PREF (тип 5) – необязательный атрибут, устанавливающий для данной АС приоритет данного маршрута среди всех маршрутов к заявленной сети, известных внутри 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6D93-C179-403D-8BEA-A36C0D336F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317016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9280" y="1485720"/>
            <a:ext cx="78134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6. Атрибуты агре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TOMIC_AGGREGATE (тип 6) и AGGREGATOR (тип 7) – необязательные атрибуты, связанные с операциями агрегирования (объединения) нескольких маршрутов в один. Для более детального ознакомления с ними отсылаем читателей к документу RFC-177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Тем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Протокол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3E98-4203-460A-9BFB-BA9A38BCF3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13992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07216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4. Обработка маршрутной информации (Decision Process) и маршрутные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1. Decis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D264-421D-4BBC-909E-013EB4F6E6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модулем BG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305000"/>
            <a:ext cx="8785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2EE8-6D9A-4A72-BB66-C7E95B99E5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Конфликты маршрутных поли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920" y="2060640"/>
            <a:ext cx="83883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A75D-D2BC-4695-8899-F2F087429D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приславшего информацию о маршру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из базы Adj-RIB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42D2-180B-4689-8BC1-9A698CB1F0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принимать маршрут – удалить из Adj-RIBsIn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административный вес маршру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значение атрибута LOCAL_PREF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маршрут в качестве маршрута по умолч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206-FCB4-4FC7-AF7A-9EC3EAAA30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которому этот маршрут объявля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в базу Adj-RIBs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7BC2-797F-41B6-9A34-C8B1490267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объявлять маршрут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: не устанавливать, установить указанное значение, взять в качестве значения метрику маршрута из IG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извести агрегирование сетей в общий префик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одифицировать AS_PATH указанным образ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менить маршрут на defa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2AFD-190C-4F10-A293-F1DCD73AED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ара BGP-соседей устанавливает между собой соединение по протоколу TCP, порт 179. Соседи, принадлежащие разным АС, должны быть доступны друг другу непосредственно; для соседей из одной АС такого ограничения нет, поскольку протокол внутренней маршрутизации обеспечит наличие всех необходимых маршрутов между узлами одной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5.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еализация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AA37-37BA-45CF-9946-E9BB9F952A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OPEN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посылается после установления TCP-соединения. Ответом на OPEN является сообщение KEEPALIVE, если вторая сторона согласна стать BGP-соседом; иначе посылается сообщение NOTIFICATION с кодом, поясняющим причину отказа, и соединение раз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KEEPALIVE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подтверждения согласия установить соседские отношения, а также для мониторинга активности открытого соединения: для этого BGP-соседи обмениваются KEEPALIVE-сообщениями через определенные интервалы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0D6F-C166-4D19-8F6A-7F61571283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UPDATE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анонсирования и отзыва маршрутов. После установления соединения с помощью сообщений UPDATE пересылаются все маршруты, которые маршрутизатор хочет объявить соседу (full update), после чего пересылаются только данные о добавленных или удаленных маршрутах по мере их появления (partial upd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3263760"/>
            <a:ext cx="81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13640"/>
            <a:ext cx="77770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Атрибуты пути (Path Attributes)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(Decision Process) и маршрутные поли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Реализация BG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D898-1659-4018-B542-95C7E55F12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NOTIFICATION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– сообщение этого типа используется для информирования соседа о причине закрытия соединения. После отправления этого сообщения BGP-соединение зак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FC00-4625-4BDA-AE75-5756D688691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6 октетов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маркер: в сообщении OPEN всегда, и при раб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㔾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Ґе без аутентификации - в других собщениях, заполнен единицами. Иначе содержит аутентификационную информацию. Сопутствующая функция маркера - повышение надежности выделения границы сообщения в поток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 октет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длина сообщения в октетах, включая загол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 октет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тип со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BGP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Назовите тип протокола маршрутизации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 называется связующая сеть BGP-системы не принадлежит ни к одной автоном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 помощью чего соединяются автономные BGP-сис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тупик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многопорт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ят положительные и отрицательные особенности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Хелеби С., Мак-Ферсон Д. Принципы маршрутизации в Internet, 3-е издание. – М.: "Вильямс"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734B-AF9D-47D3-9169-036905D238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14784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6360" y="1494000"/>
            <a:ext cx="7920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троение маршрутов между сетями, принадлежащими разным автономным систе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A80B-651A-4841-8656-1B0A4A9352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154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83628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нутреннее строение автономных систем скрыто, известны только адреса IP-сетей, составляющих 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Автономные системы"/>
          <p:cNvPicPr/>
          <p:nvPr/>
        </p:nvPicPr>
        <p:blipFill>
          <a:blip r:embed="rId1"/>
          <a:stretch/>
        </p:blipFill>
        <p:spPr>
          <a:xfrm>
            <a:off x="934920" y="2384280"/>
            <a:ext cx="720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86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2183-6435-42DB-892B-2270B44B27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098880"/>
            <a:ext cx="828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793800"/>
            <a:ext cx="8245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2. 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BGP-маршрутизаторы, находящиеся в одной АС, также должны обмениваться между собой маршрутной информацией. Это необходимо для согласованного отбора внешних маршрутов в соответствии с политикой данной АС и для передачи транзитных маршрутов через автономн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6A0B-DC8C-4CFC-98CA-7D20D21570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31528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9280" y="1879560"/>
            <a:ext cx="770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ой обмен производится также по протоколу BGP, который в этом случае часто называется IBGP (Internal BGP), (соответственно, протокол обмена маршрутами между маршрутзаторами разных АС обозначается EBGP –External BG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33EF-83AD-4BDD-8ED5-2558F9990D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9280" y="1700280"/>
            <a:ext cx="78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8421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, участникам группы нет необходимости устанавливать BGP-соединения попарно; вместо этого каждый участник устанавливает одно соединение с сервером.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1839-6F82-487C-BD69-FC7E2E9B29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521000"/>
            <a:ext cx="759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360" y="983160"/>
            <a:ext cx="79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Группой маршрутизаторов могут быть, например, все BGP-маршрутизаторы данной АС, однако маршрутные серверы могут применяться для уменьшения числа соединений также и на внешних BGP-соединениях – в случае, когда в одной физической сети находится много BGP-маршрутизаторов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9Z</dcterms:modified>
  <cp:revision>155</cp:revision>
  <dc:subject/>
  <dc:title>Lecture Template </dc:title>
</cp:coreProperties>
</file>